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1B5-2C07-4967-A8B7-194195EA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900-2AF1-4E8D-81C0-36FB389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9EB-D6AB-4E61-9CC5-367F24B3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BCA-81E7-4A13-92F5-8EAFADD7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927-9A66-41AB-BEF8-F5D08330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E74F-F638-436A-99B3-4DB86567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BDB-668F-44C1-9124-D59138D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6034-1246-4FD8-9CEE-E6C3641D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E1D3-90F3-4FAA-85B3-A25DA3AE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302B-2E8D-48BB-A20C-A7A456C5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ED0-B768-4F09-9553-5CD8145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A68-DDEC-4C41-91CB-C92C61A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3408-9D05-4029-A37C-2F1E995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5127-909D-4F73-80D5-A766797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3243-07E9-407B-AAFF-32DE525D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8F9C-574A-48F1-BF18-56E81E2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20B5-23E2-4E82-A0D9-6B6D052F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DE3-9D1F-412A-8DB6-8FEE183A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A00-D8F4-41CA-8828-F8B2AB6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841-345B-4CCA-A757-9BF648A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B40-C0ED-4A47-A31B-5E1AE96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5D2-0D67-4D4D-AE48-36C7FA6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691-33CE-4A13-8C82-0E372F3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CE4-6135-4F98-A2E0-4C5A81E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4B5-23EA-4911-BC33-BA9555DD2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38D-92CB-426E-A254-A9B8513372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Divided Kingdom – Part 1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6, Lesson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g.69-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King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772400" cy="5046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67480" y="3124080"/>
            <a:ext cx="1295640" cy="38124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01000" cy="5195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3657600"/>
            <a:ext cx="6858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From The Last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is anointed king of Isra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ed Joram, king of Isra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also killed Ahaziah, Judah’s 6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ru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xt he killed Jezebel &amp; left her to be eaten by the d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In Today’s Les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all of Ahab’s rel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are made by Jehu – 2 Kgs.10:1-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capitation performed by the people -4-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struction unleashed on the rest – 9-11,15-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more relatives of Ahaziah 10:12-14  - princes of Jud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the leaders of Jezreel – 9: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Athali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rns her son, Ahaziah has been s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izes the opportunity to be Judah’s new Qu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do this she kills all the royal family (her own grandchildren) except Joash, who was hidden from 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ile Jehu is ruler in Israel, she adds 6 evil years of rule over Jud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mall infant (Joash) is the only hope of keeping the promise to David al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haliah – 6 evil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oash, the son of Ahaziah is spa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hu – 28 evil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hu destroys the Baal worshipers 2 Kgs 10:18-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ehovah’s Promise to Jehu – 4 more generations – 2 Kgs 10: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ehu Squandered His Opportunity – 29-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3:34:37Z</dcterms:created>
  <dc:creator>Terry W. Benton</dc:creator>
  <dc:description/>
  <dc:language>en-US</dc:language>
  <cp:lastModifiedBy>Frank D Vines</cp:lastModifiedBy>
  <dcterms:modified xsi:type="dcterms:W3CDTF">2007-03-07T04:48:51Z</dcterms:modified>
  <cp:revision>2</cp:revision>
  <dc:subject/>
  <dc:title>Till There Was No Remedy (Divided Kingdom – Part 1</dc:title>
</cp:coreProperties>
</file>